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2D33B0-BE15-4362-8E28-94C14F439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22F7B1-1A9E-473A-89B3-77054E7C0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F5D860-3535-4328-8723-533B85D20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3CC8DE-C907-4670-9115-EB2DCBDD5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BB7EA0-2F93-4F10-BAF0-27EE12D75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927B60-82A3-45AF-9B2D-D3968D796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D59CFE-90C7-46B7-8191-184B611F3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BB6FD4-D25B-4645-9B55-BDF0D1A9D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DCA697-F8D5-466C-8DF0-E3E9F5D46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B9956-38C3-42A6-8E64-224351179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6EED9-8D5B-41FE-B370-E6F0AD5A7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75AE8-53C8-471E-AE39-E0E4E2FCD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34A5C-9A09-45C2-9DBD-123A10B91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10AF3-CDDF-4BE1-9921-21817E1AA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7704D-C4E4-4195-9DA1-73F480B04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838DD-B380-489A-9A88-80031B079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79853-9157-42BF-8032-9CC87BE8C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0F896-821E-4BCC-BD72-74690A487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8E796-9298-4E8F-BE32-9B09D1720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F8327-3BCE-44BB-8BA7-94E0411D6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9CAFF-BF4C-441B-B55C-F670AA828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9B023-9F9D-4CD9-AE96-79ADA9508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BA695-310D-42DF-91C6-8578CDA99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C7BBE-BB33-4DEC-BE3B-33EBFC72D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79800-375D-4BBF-90BC-DD8EFC659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7B851-45FF-4D49-BC76-6E78C7784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5463C-C5CD-4DC9-B4F1-B6F677831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886C9-6CB5-4421-B064-156100ADF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1D543-9908-4504-9BEB-5743C8B5E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54555-D388-4F35-A0D7-74FCF15AC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17265-E9B4-4670-A484-2D7C0A01B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844E3-D915-4773-8066-A6EA53071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7A7AB-2BCF-460A-B6F7-BB8024378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C902DA-57B3-4116-ABAA-31DF08AAD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2BC541-32E1-48BF-B221-E5C2543ED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64EC9A-7BC6-40BE-85B8-B7C1CE791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3C9C29-1B8B-4A26-AB1F-AB3AFF1F8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70F16D-A5C9-4E18-9FAA-9C18BB451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D6A39C-470F-4383-BA15-14DE061FA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3E0C02-F331-4502-8615-E3D26578B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546E73-9ECA-4F95-8F0E-EDA2122CE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0ADA72-5EF2-434A-AC80-3AA5DBA61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340976-5EC6-4845-ABA9-AA8C3E2D6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FFD01C-77EC-40A7-AD8E-F91E855F0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25DB07-64F0-4C54-8A79-F25679671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B78CC6-5DD3-42D1-A277-C07F006A1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BAFD0C-31AC-45D6-A7B9-528D11310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84DAFC-FDEC-4BBB-A4C9-D87DEA54C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2B6861-810F-4E1C-9D09-16B2BAC29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88952E-632C-433B-A255-888945EA6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A4A913-BF5F-4687-9880-5B7D236E8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FBB90F-7CB6-4CAF-8525-BCE74EA62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96FD7D-C533-41D4-8E85-37E6964A6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C21520-E715-4863-9885-2802A311E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BCBBC8-7BD5-43A6-8B55-E7502C392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5EF197-80CB-429E-9E81-11972044A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620513-C51C-450D-AA01-C1A6D0B10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B5C0A2-D7D4-4495-A1D2-9D9F01A47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0C2993-0699-4395-9B1D-EB534DE16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D7AB44-FB46-4BD5-87C1-9B6444263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04E4E6-EF29-49B4-A397-7B590C781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9E9875-D97C-4E22-9E84-50C8DD155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3A887B-AC85-4E15-BAE2-321389481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D702AF-A261-4E62-BAF8-6C92F85C4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23B253-9D58-471C-83BA-C25F824CB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C25CB0-703D-43ED-A9E8-8822C4264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2B7207-4CA2-4022-A98B-661382CE4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190F74-932E-44EC-8A43-43D9DBFD2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052433-E1F2-4250-8231-A987A4841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99D7A4-3495-4D5E-B9B2-6F4CEA243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62F69E-1B20-42C8-AF5D-443763C8D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289785-A62D-4141-A208-8F67B090E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E4B275-F26A-4C72-890F-F4FE5CBE5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A2F548-0C78-401B-A84F-0B17C3A34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160206-2FDE-4F41-9009-916CDA9F7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64D430-278F-47D1-9688-10534E0E0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61DBF9-241C-4F1A-8669-7464F4C8D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FE8E7C-1214-42AC-B40F-BD37A0E92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35F25D-C0B1-4BD7-9AF7-2D0BA4D7D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4C28D7-0E1E-491F-B5BE-3397331DE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8DC4D0-9138-4314-B68C-A7433C305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0AB7F6-2454-4AC7-8C58-8D30D5AB2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CEB61E-BC82-4575-88DE-FD8F73056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B2D0C7-6C3A-41A6-9051-59105F0CC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3"/>
          <a:stretch/>
        </p:blipFill>
        <p:spPr>
          <a:xfrm>
            <a:off x="0" y="-1440"/>
            <a:ext cx="12192120" cy="6859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dt" idx="1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ftr" idx="2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sldNum" idx="3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3C756-6C8D-4FE7-BC00-741504199500}" type="slidenum">
              <a:rPr b="0" lang="id-ID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dt" idx="4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ftr" idx="5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sldNum" idx="6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B39B3-199E-4796-9A41-A7748E0947F3}" type="slidenum">
              <a:rPr b="0" lang="id-ID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dt" idx="7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ftr" idx="8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sldNum" idx="9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FB296-7E6F-4390-80F2-6E81F0F4BA71}" type="slidenum">
              <a:rPr b="0" lang="id-ID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dt" idx="10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ftr" idx="11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sldNum" idx="12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C5B63-B0AB-418C-B27A-718DA7865E68}" type="slidenum">
              <a:rPr b="0" lang="id-ID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dt" idx="13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ftr" idx="14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sldNum" idx="15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F17D3-D939-4B11-96D9-1C229A5E970D}" type="slidenum">
              <a:rPr b="0" lang="id-ID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dt" idx="16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ftr" idx="17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sldNum" idx="18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5B883-D5A5-424C-A966-B1307C48F92C}" type="slidenum">
              <a:rPr b="0" lang="id-ID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dt" idx="19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ftr" idx="2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sldNum" idx="21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921FB-6572-48E0-B969-4435058FF49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1"/>
          <p:cNvSpPr/>
          <p:nvPr/>
        </p:nvSpPr>
        <p:spPr>
          <a:xfrm>
            <a:off x="3592440" y="724320"/>
            <a:ext cx="4772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60000"/>
                </a:solidFill>
                <a:latin typeface="Times New Roman"/>
                <a:ea typeface="Times New Roman"/>
              </a:rPr>
              <a:t>PENERIMAAN MAHASISWA BA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60000"/>
                </a:solidFill>
                <a:latin typeface="Times New Roman"/>
                <a:ea typeface="Times New Roman"/>
              </a:rPr>
              <a:t>JALUR MANDIRI TAHUN 20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60000"/>
                </a:solidFill>
                <a:latin typeface="Times New Roman"/>
                <a:ea typeface="Times New Roman"/>
              </a:rPr>
              <a:t>ISI SURAKAR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Box 11"/>
          <p:cNvSpPr/>
          <p:nvPr/>
        </p:nvSpPr>
        <p:spPr>
          <a:xfrm>
            <a:off x="4375080" y="2138400"/>
            <a:ext cx="6572160" cy="2014200"/>
          </a:xfrm>
          <a:prstGeom prst="rect">
            <a:avLst/>
          </a:prstGeom>
          <a:solidFill>
            <a:srgbClr val="ffffff"/>
          </a:solidFill>
          <a:ln w="1908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mbria"/>
                <a:ea typeface="Cambria"/>
              </a:rPr>
              <a:t>Nama Peserta</a:t>
            </a:r>
            <a:r>
              <a:rPr b="1" lang="en-US" sz="1800" spc="-1" strike="noStrike">
                <a:solidFill>
                  <a:srgbClr val="000000"/>
                </a:solidFill>
                <a:latin typeface="Cambria"/>
                <a:ea typeface="Cambri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mbria"/>
                <a:ea typeface="Cambria"/>
              </a:rPr>
              <a:t>: …………………………………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mbria"/>
                <a:ea typeface="Cambria"/>
              </a:rPr>
              <a:t>NISN</a:t>
            </a:r>
            <a:r>
              <a:rPr b="1" lang="en-US" sz="1800" spc="-1" strike="noStrike">
                <a:solidFill>
                  <a:srgbClr val="000000"/>
                </a:solidFill>
                <a:latin typeface="Cambria"/>
                <a:ea typeface="Cambri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mbria"/>
                <a:ea typeface="Cambri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mbria"/>
                <a:ea typeface="Cambria"/>
              </a:rPr>
              <a:t>: …………………………………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mbria"/>
                <a:ea typeface="Cambria"/>
              </a:rPr>
              <a:t>Asal Sekolah</a:t>
            </a:r>
            <a:r>
              <a:rPr b="1" lang="en-US" sz="1800" spc="-1" strike="noStrike">
                <a:solidFill>
                  <a:srgbClr val="000000"/>
                </a:solidFill>
                <a:latin typeface="Cambria"/>
                <a:ea typeface="Cambri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mbria"/>
                <a:ea typeface="Cambria"/>
              </a:rPr>
              <a:t>: …………………………………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itle 1"/>
          <p:cNvSpPr/>
          <p:nvPr/>
        </p:nvSpPr>
        <p:spPr>
          <a:xfrm>
            <a:off x="1104840" y="2138400"/>
            <a:ext cx="2865600" cy="3944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mbria"/>
              </a:rPr>
              <a:t>Cantumkan foto terbaru seluruh badan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882520" y="159840"/>
            <a:ext cx="619596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mbria"/>
                <a:ea typeface="Cambria"/>
              </a:rPr>
              <a:t>REKAMAN VIDEO PENYAJIAN VOCAL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3143160" y="5784480"/>
            <a:ext cx="6337440" cy="5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mbria"/>
                <a:ea typeface="Cambria"/>
              </a:rPr>
              <a:t>AKSES GOOGLE DRIVE WAJIB DIBUKA / Tidak Boleh Terkunci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TextBox 6"/>
          <p:cNvSpPr/>
          <p:nvPr/>
        </p:nvSpPr>
        <p:spPr>
          <a:xfrm>
            <a:off x="1774800" y="5370480"/>
            <a:ext cx="9074160" cy="337320"/>
          </a:xfrm>
          <a:prstGeom prst="rect">
            <a:avLst/>
          </a:prstGeom>
          <a:solidFill>
            <a:srgbClr val="ffffff"/>
          </a:solidFill>
          <a:ln w="1908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https://drive.google.com/drive/folders/1z8D9j-WhGOmC42-n-oJeVN1WS_szjAmh?usp=drive_link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2"/>
          <p:cNvSpPr/>
          <p:nvPr/>
        </p:nvSpPr>
        <p:spPr>
          <a:xfrm>
            <a:off x="1271520" y="1197000"/>
            <a:ext cx="10080720" cy="4076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IDE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2882520" y="159840"/>
            <a:ext cx="619596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mbria"/>
                <a:ea typeface="Cambria"/>
              </a:rPr>
              <a:t>REKAMAN VIDEO PENAMPILAN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ambria"/>
                <a:ea typeface="Cambria"/>
              </a:rPr>
              <a:t>MEMAINKAN ALAT MUSI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143160" y="5784480"/>
            <a:ext cx="6337440" cy="5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mbria"/>
                <a:ea typeface="Cambria"/>
              </a:rPr>
              <a:t>AKSES GOOGLE DRIVE WAJIB DIBUKA / Tidak Boleh Terkunci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TextBox 6"/>
          <p:cNvSpPr/>
          <p:nvPr/>
        </p:nvSpPr>
        <p:spPr>
          <a:xfrm>
            <a:off x="1774800" y="5370480"/>
            <a:ext cx="9074160" cy="337320"/>
          </a:xfrm>
          <a:prstGeom prst="rect">
            <a:avLst/>
          </a:prstGeom>
          <a:solidFill>
            <a:srgbClr val="ffffff"/>
          </a:solidFill>
          <a:ln w="1908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https://drive.google.com/drive/folders/1z8D9j-WhGOmC42-n-oJeVN1WS_szjAmh?usp=drive_link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2"/>
          <p:cNvSpPr/>
          <p:nvPr/>
        </p:nvSpPr>
        <p:spPr>
          <a:xfrm>
            <a:off x="1271520" y="1197000"/>
            <a:ext cx="10080720" cy="4076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IDE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2882520" y="159840"/>
            <a:ext cx="619596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mbria"/>
                <a:ea typeface="Cambria"/>
              </a:rPr>
              <a:t>REKAMAN VIDEO PENAMPILAN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ambria"/>
                <a:ea typeface="Cambria"/>
              </a:rPr>
              <a:t>MENIRUKAN RITMI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3143160" y="5784480"/>
            <a:ext cx="6337440" cy="5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mbria"/>
                <a:ea typeface="Cambria"/>
              </a:rPr>
              <a:t>AKSES GOOGLE DRIVE WAJIB DIBUKA / Tidak Boleh Terkunci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TextBox 6"/>
          <p:cNvSpPr/>
          <p:nvPr/>
        </p:nvSpPr>
        <p:spPr>
          <a:xfrm>
            <a:off x="1774800" y="5370480"/>
            <a:ext cx="9074160" cy="337320"/>
          </a:xfrm>
          <a:prstGeom prst="rect">
            <a:avLst/>
          </a:prstGeom>
          <a:solidFill>
            <a:srgbClr val="ffffff"/>
          </a:solidFill>
          <a:ln w="1908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https://drive.google.com/drive/folders/1z8D9j-WhGOmC42-n-oJeVN1WS_szjAmh?usp=drive_link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2"/>
          <p:cNvSpPr/>
          <p:nvPr/>
        </p:nvSpPr>
        <p:spPr>
          <a:xfrm>
            <a:off x="1271520" y="1197000"/>
            <a:ext cx="10080720" cy="4076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IDE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TextBox 1"/>
          <p:cNvSpPr/>
          <p:nvPr/>
        </p:nvSpPr>
        <p:spPr>
          <a:xfrm>
            <a:off x="4475160" y="3137040"/>
            <a:ext cx="3240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Calibri"/>
              </a:rPr>
              <a:t>Deskripsi Pengalaman dan Prestas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Calibri"/>
              </a:rPr>
              <a:t>(Hasil Pindai/Sca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TextBox 2"/>
          <p:cNvSpPr/>
          <p:nvPr/>
        </p:nvSpPr>
        <p:spPr>
          <a:xfrm>
            <a:off x="4332240" y="3137040"/>
            <a:ext cx="3527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Calibri"/>
              </a:rPr>
              <a:t>Piagam/Sertifikat Bukti Prestasi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Calibri"/>
              </a:rPr>
              <a:t>(Hasil Pindai/Sca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TextBox 2"/>
          <p:cNvSpPr/>
          <p:nvPr/>
        </p:nvSpPr>
        <p:spPr>
          <a:xfrm>
            <a:off x="4295880" y="3013200"/>
            <a:ext cx="3600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Calibri"/>
              </a:rPr>
              <a:t>Deskripsi Diri atas Motivasi dan Tuju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Calibri"/>
              </a:rPr>
              <a:t>Memilih Prodi Seni Karawit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Calibri"/>
              </a:rPr>
              <a:t>(Hasil Pindai/Sca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TextBox 2"/>
          <p:cNvSpPr/>
          <p:nvPr/>
        </p:nvSpPr>
        <p:spPr>
          <a:xfrm>
            <a:off x="4494240" y="3013200"/>
            <a:ext cx="3203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Calibri"/>
              </a:rPr>
              <a:t>Surat Pernyataa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Calibri"/>
              </a:rPr>
              <a:t>Orisinalitas Data/Dokum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Calibri"/>
              </a:rPr>
              <a:t>(Hasil Pindai/Sca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1-28T07:10:12Z</dcterms:created>
  <dc:creator>asyarief</dc:creator>
  <dc:description/>
  <dc:language>en-US</dc:language>
  <cp:lastModifiedBy>NIKMATUZ ZUHRA AINY</cp:lastModifiedBy>
  <dcterms:modified xsi:type="dcterms:W3CDTF">2025-05-13T04:35:41Z</dcterms:modified>
  <cp:revision>45</cp:revision>
  <dc:subject/>
  <dc:title>Slide 1</dc:title>
</cp:coreProperties>
</file>